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D769-BB42-4C59-B18D-CD0112709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14640" y="550764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EF44-06A7-49B6-A46E-62968921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5752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7A5B-28B9-4833-9918-8610255A1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084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20668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1464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084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20668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8980-2CFA-462F-B893-62CED9B3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72EC-D6A5-485F-B4DE-A50F432D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8F6B-C17F-4823-8C9F-0FE11228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C6FC-A072-4519-A2D3-2FF25E1B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636D-5243-4014-8E24-CA3C5EC8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02E7-4E85-403A-98B0-5B60B582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14640" y="814320"/>
            <a:ext cx="45720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D1D9-831D-4722-8160-4E5ED91C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3A71-251F-445C-A1EE-6D1B0056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76E3-02D7-4D30-A3CA-37C476F5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5752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A7DE-A362-4EE8-8B73-EF7CDBF7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7A0A-106A-4772-8667-E7FCB88F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114640" y="550764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DF2E-E961-4B68-AEA8-13A9FE7A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5752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A4FB-763D-40A8-85A9-ECD0C36A4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6084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0668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11464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6084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20668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243B-2228-4667-9C2B-24859366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3373-968B-4E1B-B1A4-42ABB751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994B-1179-4A73-AFCF-68A5A73D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9A45-C78C-4263-B15D-844548D1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14640" y="814320"/>
            <a:ext cx="45720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FF68-6484-4F4A-AC9D-166E7CC4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7352-1713-40A3-9F95-C4AB0A4C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5752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CEB1-C332-46FC-A648-58754869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A367-B409-48C1-835F-A5908B50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1122480"/>
            <a:ext cx="2171880" cy="8026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3920" indent="-313920">
              <a:spcBef>
                <a:spcPts val="726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  <a:p>
            <a:pPr lvl="1" marL="683280" indent="-264240">
              <a:spcBef>
                <a:spcPts val="726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  <a:p>
            <a:pPr lvl="2" marL="1051560" indent="-210240">
              <a:spcBef>
                <a:spcPts val="726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  <a:p>
            <a:pPr lvl="3" marL="1473480" indent="-212760">
              <a:spcBef>
                <a:spcPts val="72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  <a:p>
            <a:pPr lvl="4" marL="1892520" indent="-210240">
              <a:spcBef>
                <a:spcPts val="726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  <a:p>
            <a:pPr lvl="5" marL="1892520" indent="-210240">
              <a:spcBef>
                <a:spcPts val="726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  <a:p>
            <a:pPr lvl="6" marL="1892520" indent="-210240">
              <a:spcBef>
                <a:spcPts val="726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9680" y="8329680"/>
            <a:ext cx="1428840" cy="6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85600" y="8329680"/>
            <a:ext cx="2171880" cy="6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257440" y="8329680"/>
            <a:ext cx="1428840" cy="6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3F12-6951-42A0-B6F4-4FE0CFED712A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2278080"/>
            <a:ext cx="6861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1122480"/>
            <a:ext cx="2171880" cy="8026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3920" indent="-313920">
              <a:spcBef>
                <a:spcPts val="726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  <a:p>
            <a:pPr lvl="1" marL="683280" indent="-264240">
              <a:spcBef>
                <a:spcPts val="726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  <a:p>
            <a:pPr lvl="2" marL="1051560" indent="-210240">
              <a:spcBef>
                <a:spcPts val="726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  <a:p>
            <a:pPr lvl="3" marL="1473480" indent="-212760">
              <a:spcBef>
                <a:spcPts val="72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  <a:p>
            <a:pPr lvl="4" marL="1892520" indent="-210240">
              <a:spcBef>
                <a:spcPts val="726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  <a:p>
            <a:pPr lvl="5" marL="1892520" indent="-210240">
              <a:spcBef>
                <a:spcPts val="726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  <a:p>
            <a:pPr lvl="6" marL="1892520" indent="-210240">
              <a:spcBef>
                <a:spcPts val="726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229680" y="8329680"/>
            <a:ext cx="1428840" cy="6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685600" y="8329680"/>
            <a:ext cx="2171880" cy="6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5257440" y="8329680"/>
            <a:ext cx="1428840" cy="6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95BB-0FC3-4BEF-A238-645DE985A9B4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3480" y="4190760"/>
            <a:ext cx="4800600" cy="20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6699"/>
                </a:solidFill>
                <a:latin typeface="Tahoma"/>
              </a:rPr>
              <a:t>Range Expansion of the Eastern Coyote in New Jersey</a:t>
            </a:r>
            <a:br>
              <a:rPr sz="6600"/>
            </a:br>
            <a:br>
              <a:rPr sz="6600"/>
            </a:br>
            <a:endParaRPr b="1" lang="en-US" sz="39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828440" y="533520"/>
            <a:ext cx="3429000" cy="129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9999"/>
                </a:solidFill>
                <a:latin typeface="Arial"/>
              </a:rPr>
              <a:t>NJ Upland Wildlife and Furbearer Research Project</a:t>
            </a:r>
            <a:endParaRPr b="0" lang="en-US" sz="2300" spc="-1" strike="noStrike">
              <a:solidFill>
                <a:srgbClr val="009999"/>
              </a:solidFill>
              <a:latin typeface="Arial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C:\ESRI\Projects from Old Computer\Coyote\range progress\2005-09a.jpg"/>
          <p:cNvPicPr/>
          <p:nvPr/>
        </p:nvPicPr>
        <p:blipFill>
          <a:blip r:embed="rId1"/>
          <a:stretch/>
        </p:blipFill>
        <p:spPr>
          <a:xfrm>
            <a:off x="-228600" y="-214200"/>
            <a:ext cx="7315200" cy="9572400"/>
          </a:xfrm>
          <a:prstGeom prst="rect">
            <a:avLst/>
          </a:prstGeom>
          <a:ln w="0">
            <a:noFill/>
          </a:ln>
        </p:spPr>
      </p:pic>
    </p:spTree>
  </p:cSld>
  <p:transition advTm="2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 advTm="2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8" descr="C:\ESRI\Projects from Old Computer\Coyote\range progress\39-60rm.jpg"/>
          <p:cNvPicPr/>
          <p:nvPr/>
        </p:nvPicPr>
        <p:blipFill>
          <a:blip r:embed="rId1"/>
          <a:stretch/>
        </p:blipFill>
        <p:spPr>
          <a:xfrm>
            <a:off x="-228600" y="-214200"/>
            <a:ext cx="7315200" cy="9572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5"/>
          <p:cNvSpPr/>
          <p:nvPr/>
        </p:nvSpPr>
        <p:spPr>
          <a:xfrm>
            <a:off x="442800" y="3184560"/>
            <a:ext cx="20732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First Occurrence- 1939, Lambertville, Hunterdon County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1293840" y="8153280"/>
            <a:ext cx="144936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1948, Lower Twp., Cape May County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0" name="Line 21"/>
          <p:cNvSpPr/>
          <p:nvPr/>
        </p:nvSpPr>
        <p:spPr>
          <a:xfrm>
            <a:off x="1754280" y="1830240"/>
            <a:ext cx="608040" cy="1494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1" name="Line 23"/>
          <p:cNvSpPr/>
          <p:nvPr/>
        </p:nvSpPr>
        <p:spPr>
          <a:xfrm>
            <a:off x="1828800" y="1523880"/>
            <a:ext cx="838080" cy="2286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304920" y="1371600"/>
            <a:ext cx="16761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1958, Liberty Twp., 1953, White Twp. Warren County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3" name="Line 25"/>
          <p:cNvSpPr/>
          <p:nvPr/>
        </p:nvSpPr>
        <p:spPr>
          <a:xfrm flipH="1">
            <a:off x="4267080" y="2819520"/>
            <a:ext cx="106704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5334120" y="2514600"/>
            <a:ext cx="15238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1957, Green Brook Twp., Somerset County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4495680" y="152280"/>
            <a:ext cx="183060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1958, West Milford Twp., Passaic County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6" name="Oval 29"/>
          <p:cNvSpPr/>
          <p:nvPr/>
        </p:nvSpPr>
        <p:spPr>
          <a:xfrm>
            <a:off x="2514600" y="3276720"/>
            <a:ext cx="60948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 advTm="5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600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98" name="Picture 11" descr="C:\ESRI\Projects from Old Computer\Coyote\range progress\60srm.jpg"/>
          <p:cNvPicPr/>
          <p:nvPr/>
        </p:nvPicPr>
        <p:blipFill>
          <a:blip r:embed="rId1"/>
          <a:stretch/>
        </p:blipFill>
        <p:spPr>
          <a:xfrm>
            <a:off x="-228600" y="-214200"/>
            <a:ext cx="7315200" cy="9572400"/>
          </a:xfrm>
          <a:prstGeom prst="rect">
            <a:avLst/>
          </a:prstGeom>
          <a:ln w="0">
            <a:noFill/>
          </a:ln>
        </p:spPr>
      </p:pic>
    </p:spTree>
  </p:cSld>
  <p:transition advTm="2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14640" y="136656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1" name="Picture 13" descr="C:\ESRI\Projects from Old Computer\Coyote\range progress\70srm.jpg"/>
          <p:cNvPicPr/>
          <p:nvPr/>
        </p:nvPicPr>
        <p:blipFill>
          <a:blip r:embed="rId1"/>
          <a:stretch/>
        </p:blipFill>
        <p:spPr>
          <a:xfrm>
            <a:off x="-228600" y="-214200"/>
            <a:ext cx="7315200" cy="9572400"/>
          </a:xfrm>
          <a:prstGeom prst="rect">
            <a:avLst/>
          </a:prstGeom>
          <a:ln w="0">
            <a:noFill/>
          </a:ln>
        </p:spPr>
      </p:pic>
    </p:spTree>
  </p:cSld>
  <p:transition advTm="2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14640" y="136980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2652840" y="4268880"/>
            <a:ext cx="1547640" cy="603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C:\ESRI\Projects from Old Computer\Coyote\range progress\80-84rm.jpg"/>
          <p:cNvPicPr/>
          <p:nvPr/>
        </p:nvPicPr>
        <p:blipFill>
          <a:blip r:embed="rId2"/>
          <a:stretch/>
        </p:blipFill>
        <p:spPr>
          <a:xfrm>
            <a:off x="-228600" y="-214200"/>
            <a:ext cx="7315200" cy="9572400"/>
          </a:xfrm>
          <a:prstGeom prst="rect">
            <a:avLst/>
          </a:prstGeom>
          <a:ln w="0">
            <a:noFill/>
          </a:ln>
        </p:spPr>
      </p:pic>
    </p:spTree>
  </p:cSld>
  <p:transition advTm="2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14640" y="134424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8" name="Picture 10" descr="C:\ESRI\Projects from Old Computer\Coyote\range progress\85-89rm.jpg"/>
          <p:cNvPicPr/>
          <p:nvPr/>
        </p:nvPicPr>
        <p:blipFill>
          <a:blip r:embed="rId1"/>
          <a:stretch/>
        </p:blipFill>
        <p:spPr>
          <a:xfrm>
            <a:off x="-228600" y="-214200"/>
            <a:ext cx="7315200" cy="9572400"/>
          </a:xfrm>
          <a:prstGeom prst="rect">
            <a:avLst/>
          </a:prstGeom>
          <a:ln w="0">
            <a:noFill/>
          </a:ln>
        </p:spPr>
      </p:pic>
    </p:spTree>
  </p:cSld>
  <p:transition advTm="2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14640" y="136980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1" name="Picture 10" descr="C:\ESRI\Projects from Old Computer\Coyote\range progress\90-94rm.jpg"/>
          <p:cNvPicPr/>
          <p:nvPr/>
        </p:nvPicPr>
        <p:blipFill>
          <a:blip r:embed="rId1"/>
          <a:stretch/>
        </p:blipFill>
        <p:spPr>
          <a:xfrm>
            <a:off x="-228600" y="-214200"/>
            <a:ext cx="7315200" cy="9572400"/>
          </a:xfrm>
          <a:prstGeom prst="rect">
            <a:avLst/>
          </a:prstGeom>
          <a:ln w="0">
            <a:noFill/>
          </a:ln>
        </p:spPr>
      </p:pic>
    </p:spTree>
  </p:cSld>
  <p:transition advTm="2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01680" y="137124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4" name="Picture 1033" descr="C:\ESRI\Projects from Old Computer\Coyote\range progress\95-99rm.jpg"/>
          <p:cNvPicPr/>
          <p:nvPr/>
        </p:nvPicPr>
        <p:blipFill>
          <a:blip r:embed="rId1"/>
          <a:stretch/>
        </p:blipFill>
        <p:spPr>
          <a:xfrm>
            <a:off x="-228600" y="-214200"/>
            <a:ext cx="7315200" cy="9572400"/>
          </a:xfrm>
          <a:prstGeom prst="rect">
            <a:avLst/>
          </a:prstGeom>
          <a:ln w="0">
            <a:noFill/>
          </a:ln>
        </p:spPr>
      </p:pic>
    </p:spTree>
  </p:cSld>
  <p:transition advTm="2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2" descr="C:\ESRI\Projects from Old Computer\Coyote\range progress\2000-04.jpg"/>
          <p:cNvPicPr/>
          <p:nvPr/>
        </p:nvPicPr>
        <p:blipFill>
          <a:blip r:embed="rId1"/>
          <a:stretch/>
        </p:blipFill>
        <p:spPr>
          <a:xfrm>
            <a:off x="-228600" y="-214200"/>
            <a:ext cx="7315200" cy="9572400"/>
          </a:xfrm>
          <a:prstGeom prst="rect">
            <a:avLst/>
          </a:prstGeom>
          <a:ln w="0">
            <a:noFill/>
          </a:ln>
        </p:spPr>
      </p:pic>
    </p:spTree>
  </p:cSld>
  <p:transition advTm="2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6T13:15:19Z</dcterms:created>
  <dc:creator>Joseph R. Garris</dc:creator>
  <dc:description/>
  <dc:language>en-US</dc:language>
  <cp:lastModifiedBy>Paul Tarlowe</cp:lastModifiedBy>
  <cp:lastPrinted>2006-02-03T18:59:21Z</cp:lastPrinted>
  <dcterms:modified xsi:type="dcterms:W3CDTF">2012-12-19T21:09:23Z</dcterms:modified>
  <cp:revision>150</cp:revision>
  <dc:subject/>
  <dc:title>The Eastern Coyote in New Jersey</dc:title>
</cp:coreProperties>
</file>