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50F-2F0A-4A38-9BBA-6EE2301F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81B-659A-443D-9A8D-C0D9B172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7B9-75C7-41EB-8562-0798C3CC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F440-38E9-4705-B78A-66319AD7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6342-39C9-45FB-B35F-0C011160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B159-26BC-4174-A721-BE420F14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676F-832F-47C6-8B49-41D2C82A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6B46-0DE7-4B7D-902E-89E2A562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C906-AC26-401E-943C-D01454B2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14640" y="814320"/>
            <a:ext cx="45720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DAE4-39EB-4491-A70B-F2629592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76C1-188F-4C08-8CCE-3D01658A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8A40-C845-4FCB-BF2D-4744517B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A496-0182-40C9-B3F7-703BF70F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3A83-78BA-4FCF-812A-3789D87D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4FDA-D016-4BCD-8233-636F929C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7602-8D8B-409B-9973-A6549A20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D8C3-79C5-4B8D-A40A-87E47D8C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ADC-BF37-42BC-A63B-95A6C13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1F9-0BF3-4CB9-8A66-70B4F6B7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95D-4FBA-4CB7-AB2F-74203923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14640" y="814320"/>
            <a:ext cx="45720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D96-F748-400A-9F55-469D6ACC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F16-16BE-422A-BCB0-2650873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642-6904-4F69-8845-5A33210B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A62-6261-4176-A572-C477F6BB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1122480"/>
            <a:ext cx="2171880" cy="802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3920" indent="-313920">
              <a:spcBef>
                <a:spcPts val="726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1" marL="683280" indent="-264240">
              <a:spcBef>
                <a:spcPts val="726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2" marL="1051560" indent="-210240">
              <a:spcBef>
                <a:spcPts val="726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3" marL="1473480" indent="-212760">
              <a:spcBef>
                <a:spcPts val="72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4" marL="1892520" indent="-210240">
              <a:spcBef>
                <a:spcPts val="726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5" marL="1892520" indent="-210240">
              <a:spcBef>
                <a:spcPts val="726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6" marL="1892520" indent="-210240">
              <a:spcBef>
                <a:spcPts val="726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9680" y="8329680"/>
            <a:ext cx="142884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85600" y="8329680"/>
            <a:ext cx="217188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57440" y="8329680"/>
            <a:ext cx="142884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DDEB-49EF-4701-816F-CD615E14048D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2278080"/>
            <a:ext cx="6861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1122480"/>
            <a:ext cx="2171880" cy="802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14640" y="814320"/>
            <a:ext cx="4572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3920" indent="-313920">
              <a:spcBef>
                <a:spcPts val="726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1" marL="683280" indent="-264240">
              <a:spcBef>
                <a:spcPts val="726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2" marL="1051560" indent="-210240">
              <a:spcBef>
                <a:spcPts val="726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3" marL="1473480" indent="-212760">
              <a:spcBef>
                <a:spcPts val="72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4" marL="1892520" indent="-210240">
              <a:spcBef>
                <a:spcPts val="726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5" marL="1892520" indent="-210240">
              <a:spcBef>
                <a:spcPts val="726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  <a:p>
            <a:pPr lvl="6" marL="1892520" indent="-210240">
              <a:spcBef>
                <a:spcPts val="726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229680" y="8329680"/>
            <a:ext cx="142884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685600" y="8329680"/>
            <a:ext cx="217188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5257440" y="8329680"/>
            <a:ext cx="142884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26E-56D3-474B-B3C5-8340AD94964E}" type="slidenum">
              <a:rPr b="0" lang="en-US" sz="1400" spc="-1" strike="noStrike">
                <a:solidFill>
                  <a:srgbClr val="ff99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3480" y="4190760"/>
            <a:ext cx="4800600" cy="20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6699"/>
                </a:solidFill>
                <a:latin typeface="Tahoma"/>
              </a:rPr>
              <a:t>Range Expansion of the Eastern Coyote in New Jersey</a:t>
            </a:r>
            <a:br>
              <a:rPr sz="6600"/>
            </a:br>
            <a:br>
              <a:rPr sz="6600"/>
            </a:br>
            <a:endParaRPr b="1" lang="en-US" sz="39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828440" y="533520"/>
            <a:ext cx="342900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999"/>
                </a:solidFill>
                <a:latin typeface="Arial"/>
              </a:rPr>
              <a:t>NJ Upland Wildlife and Furbearer Research Project</a:t>
            </a:r>
            <a:endParaRPr b="0" lang="en-US" sz="2300" spc="-1" strike="noStrike">
              <a:solidFill>
                <a:srgbClr val="009999"/>
              </a:solidFill>
              <a:latin typeface="Arial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C:\ESRI\Projects from Old Computer\Coyote\range progress\2005-09a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8" descr="C:\ESRI\Projects from Old Computer\Coyote\range progress\39-60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5"/>
          <p:cNvSpPr/>
          <p:nvPr/>
        </p:nvSpPr>
        <p:spPr>
          <a:xfrm>
            <a:off x="442800" y="3184560"/>
            <a:ext cx="20732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First Occurrence- 1939, Lambertville, Hunterdon County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1293840" y="8153280"/>
            <a:ext cx="14493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1948, Lower Twp., Cape May County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Line 21"/>
          <p:cNvSpPr/>
          <p:nvPr/>
        </p:nvSpPr>
        <p:spPr>
          <a:xfrm>
            <a:off x="1754280" y="1830240"/>
            <a:ext cx="608040" cy="1494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1828800" y="1523880"/>
            <a:ext cx="838080" cy="2286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304920" y="1371600"/>
            <a:ext cx="16761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1958, Liberty Twp., 1953, White Twp. Warren County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Line 25"/>
          <p:cNvSpPr/>
          <p:nvPr/>
        </p:nvSpPr>
        <p:spPr>
          <a:xfrm flipH="1">
            <a:off x="4267080" y="2819520"/>
            <a:ext cx="106704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5334120" y="2514600"/>
            <a:ext cx="1523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1957, Green Brook Twp., Somerset County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4495680" y="152280"/>
            <a:ext cx="18306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1958, West Milford Twp., Passaic County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Oval 29"/>
          <p:cNvSpPr/>
          <p:nvPr/>
        </p:nvSpPr>
        <p:spPr>
          <a:xfrm>
            <a:off x="2514600" y="3276720"/>
            <a:ext cx="6094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8" name="Picture 11" descr="C:\ESRI\Projects from Old Computer\Coyote\range progress\60s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14640" y="136656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1" name="Picture 13" descr="C:\ESRI\Projects from Old Computer\Coyote\range progress\70s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14640" y="136980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652840" y="4268880"/>
            <a:ext cx="1547640" cy="60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C:\ESRI\Projects from Old Computer\Coyote\range progress\80-84rm.jpg"/>
          <p:cNvPicPr/>
          <p:nvPr/>
        </p:nvPicPr>
        <p:blipFill>
          <a:blip r:embed="rId2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14640" y="13442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8" name="Picture 10" descr="C:\ESRI\Projects from Old Computer\Coyote\range progress\85-89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14640" y="136980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Picture 10" descr="C:\ESRI\Projects from Old Computer\Coyote\range progress\90-94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01680" y="13712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4" name="Picture 1033" descr="C:\ESRI\Projects from Old Computer\Coyote\range progress\95-99rm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2" descr="C:\ESRI\Projects from Old Computer\Coyote\range progress\2000-04.jpg"/>
          <p:cNvPicPr/>
          <p:nvPr/>
        </p:nvPicPr>
        <p:blipFill>
          <a:blip r:embed="rId1"/>
          <a:stretch/>
        </p:blipFill>
        <p:spPr>
          <a:xfrm>
            <a:off x="-228600" y="-214200"/>
            <a:ext cx="7315200" cy="9572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3:15:19Z</dcterms:created>
  <dc:creator>Joseph R. Garris</dc:creator>
  <dc:description/>
  <dc:language>en-US</dc:language>
  <cp:lastModifiedBy>Paul Tarlowe</cp:lastModifiedBy>
  <cp:lastPrinted>2006-02-03T18:59:21Z</cp:lastPrinted>
  <dcterms:modified xsi:type="dcterms:W3CDTF">2012-12-19T21:09:23Z</dcterms:modified>
  <cp:revision>150</cp:revision>
  <dc:subject/>
  <dc:title>The Eastern Coyote in New Jersey</dc:title>
</cp:coreProperties>
</file>